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0043-8291-4C08-8EE6-C7CA7E369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C48C-E463-4D28-BC78-4DEBF8409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382C-4B4D-4D49-B74D-C24A42C71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9469-B79D-498F-978C-A8A083287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F1EA-41D1-4995-BDEF-45FFEB882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7245-9C17-458E-B3FA-233F7CD8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A2F7-C31C-4092-93A6-9EEBA35FC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57F3-F657-45A1-8862-6F5FE1C86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30C4-B972-40E1-B01F-01115252D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6088-A2AA-460A-91A9-D7F1619D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0F51-C263-4143-8329-8F81BB6C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2173-9208-463F-8B7E-3168155F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BC813-FB4B-4BE8-8898-96F1382D75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u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odule 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696080" y="380880"/>
            <a:ext cx="914400" cy="914400"/>
          </a:xfrm>
          <a:prstGeom prst="ellipse">
            <a:avLst/>
          </a:prstGeom>
          <a:solidFill>
            <a:srgbClr val="de1a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bxre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467480" y="5486400"/>
            <a:ext cx="91440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400800" y="2057400"/>
            <a:ext cx="914400" cy="9144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5" idx="7"/>
            <a:endCxn id="43" idx="3"/>
          </p:cNvCxnSpPr>
          <p:nvPr/>
        </p:nvCxnSpPr>
        <p:spPr>
          <a:xfrm flipV="1">
            <a:off x="7181640" y="1161720"/>
            <a:ext cx="648360" cy="1028880"/>
          </a:xfrm>
          <a:prstGeom prst="straightConnector1">
            <a:avLst/>
          </a:prstGeom>
          <a:ln w="31680">
            <a:solidFill>
              <a:srgbClr val="339966"/>
            </a:solidFill>
            <a:miter/>
            <a:tailEnd len="med" type="triangle" w="med"/>
          </a:ln>
        </p:spPr>
      </p:cxnSp>
      <p:sp>
        <p:nvSpPr>
          <p:cNvPr id="47" name=""/>
          <p:cNvSpPr/>
          <p:nvPr/>
        </p:nvSpPr>
        <p:spPr>
          <a:xfrm>
            <a:off x="1143000" y="2514600"/>
            <a:ext cx="914400" cy="914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5" idx="6"/>
            <a:endCxn id="44" idx="0"/>
          </p:cNvCxnSpPr>
          <p:nvPr/>
        </p:nvCxnSpPr>
        <p:spPr>
          <a:xfrm>
            <a:off x="7314840" y="2514240"/>
            <a:ext cx="610200" cy="2972520"/>
          </a:xfrm>
          <a:prstGeom prst="straightConnector1">
            <a:avLst/>
          </a:prstGeom>
          <a:ln w="31680">
            <a:solidFill>
              <a:srgbClr val="339966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7" idx="7"/>
            <a:endCxn id="45" idx="1"/>
          </p:cNvCxnSpPr>
          <p:nvPr/>
        </p:nvCxnSpPr>
        <p:spPr>
          <a:xfrm flipV="1">
            <a:off x="1923840" y="2190240"/>
            <a:ext cx="4610520" cy="457920"/>
          </a:xfrm>
          <a:prstGeom prst="straightConnector1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5791320" y="3657600"/>
            <a:ext cx="91440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50" idx="7"/>
            <a:endCxn id="45" idx="3"/>
          </p:cNvCxnSpPr>
          <p:nvPr/>
        </p:nvCxnSpPr>
        <p:spPr>
          <a:xfrm flipH="1" flipV="1">
            <a:off x="6533640" y="2837880"/>
            <a:ext cx="38880" cy="952920"/>
          </a:xfrm>
          <a:prstGeom prst="straightConnector1">
            <a:avLst/>
          </a:prstGeom>
          <a:ln w="31680">
            <a:solidFill>
              <a:srgbClr val="cc99ff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2514600" y="4572000"/>
            <a:ext cx="914400" cy="9144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52" idx="0"/>
            <a:endCxn id="45" idx="2"/>
          </p:cNvCxnSpPr>
          <p:nvPr/>
        </p:nvCxnSpPr>
        <p:spPr>
          <a:xfrm flipV="1">
            <a:off x="2971440" y="2514240"/>
            <a:ext cx="3429720" cy="2057760"/>
          </a:xfrm>
          <a:prstGeom prst="straightConnector1">
            <a:avLst/>
          </a:prstGeom>
          <a:ln w="31680">
            <a:solidFill>
              <a:srgbClr val="80008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2743200" y="838080"/>
            <a:ext cx="914400" cy="9144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>
            <a:stCxn id="54" idx="6"/>
            <a:endCxn id="45" idx="0"/>
          </p:cNvCxnSpPr>
          <p:nvPr/>
        </p:nvCxnSpPr>
        <p:spPr>
          <a:xfrm>
            <a:off x="3657600" y="1294920"/>
            <a:ext cx="3201120" cy="762840"/>
          </a:xfrm>
          <a:prstGeom prst="straightConnector1">
            <a:avLst/>
          </a:prstGeom>
          <a:ln w="31680">
            <a:solidFill>
              <a:srgbClr val="33cccc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pub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modul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ld FlyBase bibliography t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ublication is linked to the journal in which it app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24480" y="4572000"/>
            <a:ext cx="13716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324480" y="2133720"/>
            <a:ext cx="13716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u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59" idx="0"/>
            <a:endCxn id="60" idx="2"/>
          </p:cNvCxnSpPr>
          <p:nvPr/>
        </p:nvCxnSpPr>
        <p:spPr>
          <a:xfrm flipV="1">
            <a:off x="7009920" y="3047400"/>
            <a:ext cx="108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types of publications in Fly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u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on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eting 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igsaw 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f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s arti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itu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al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s rel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ctile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ld FlyBase bibliography t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dn’t really work for eg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ersonal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aper published in a book published in a series of book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324480" y="4572000"/>
            <a:ext cx="13716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2133720"/>
            <a:ext cx="13716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u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7" idx="0"/>
            <a:endCxn id="68" idx="2"/>
          </p:cNvCxnSpPr>
          <p:nvPr/>
        </p:nvCxnSpPr>
        <p:spPr>
          <a:xfrm flipV="1">
            <a:off x="7009920" y="3047400"/>
            <a:ext cx="108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ursive pub relationships in ch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307200" y="5334120"/>
            <a:ext cx="13716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05480" y="3276720"/>
            <a:ext cx="1214640" cy="1214280"/>
          </a:xfrm>
          <a:prstGeom prst="diamond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_relatio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326280" y="1676520"/>
            <a:ext cx="13716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2" idx="1"/>
            <a:endCxn id="71" idx="0"/>
          </p:cNvCxnSpPr>
          <p:nvPr/>
        </p:nvCxnSpPr>
        <p:spPr>
          <a:xfrm>
            <a:off x="6405480" y="3884760"/>
            <a:ext cx="588240" cy="145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72" idx="3"/>
            <a:endCxn id="71" idx="0"/>
          </p:cNvCxnSpPr>
          <p:nvPr/>
        </p:nvCxnSpPr>
        <p:spPr>
          <a:xfrm flipH="1">
            <a:off x="6992640" y="3884760"/>
            <a:ext cx="627840" cy="145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6019920" y="4343400"/>
            <a:ext cx="62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jf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391520" y="4343400"/>
            <a:ext cx="62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bj f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>
            <a:stCxn id="72" idx="0"/>
            <a:endCxn id="73" idx="2"/>
          </p:cNvCxnSpPr>
          <p:nvPr/>
        </p:nvCxnSpPr>
        <p:spPr>
          <a:xfrm flipH="1" flipV="1">
            <a:off x="7011720" y="2590200"/>
            <a:ext cx="216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7010280" y="26668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lationship 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352680" y="5334120"/>
            <a:ext cx="13716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80" idx="3"/>
            <a:endCxn id="71" idx="1"/>
          </p:cNvCxnSpPr>
          <p:nvPr/>
        </p:nvCxnSpPr>
        <p:spPr>
          <a:xfrm>
            <a:off x="4723920" y="5790960"/>
            <a:ext cx="1583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4800600" y="52578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b 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s any type of publication (not just journal -&gt; paper) to be sto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wnside: its recursiv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4T16:46:27Z</dcterms:created>
  <dc:creator>William M. Gelbart</dc:creator>
  <dc:description/>
  <dc:language>en-US</dc:language>
  <cp:lastModifiedBy>William M. Gelbart</cp:lastModifiedBy>
  <dcterms:modified xsi:type="dcterms:W3CDTF">2003-09-14T22:24:53Z</dcterms:modified>
  <cp:revision>4</cp:revision>
  <dc:subject/>
  <dc:title>chado</dc:title>
</cp:coreProperties>
</file>